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9C7-A24B-4D78-94CA-5D3EBB78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212-E03B-48C9-8FAB-920A5325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698-1753-40C4-927A-2A744411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BE5-7CA4-41C0-9916-A1AF6105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810-495A-4635-8B03-CCE65B9D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BF3-D980-43B3-8EA7-78A59C6B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E10-44A6-46D0-A928-B194D902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6D6-1341-4995-8BD8-05B304FA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E9C-776F-41EF-AA06-F6F805EE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ADE-1DA8-4AA9-B00C-7E956306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3B4-DA03-44EA-9803-554C83C4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9AF-79DB-4E6C-8BDD-58FDF826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E4BDB-0160-43BB-B18F-914415287267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794B0-24E4-4FFA-828C-FF79A9A20A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y.hrw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" name="Content Placeholder 4" descr=""/>
          <p:cNvPicPr/>
          <p:nvPr/>
        </p:nvPicPr>
        <p:blipFill>
          <a:blip r:embed="rId3"/>
          <a:srcRect l="-52751" t="0" r="-5275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Content Placeholder 5" descr="p_2709579.jpg"/>
          <p:cNvPicPr/>
          <p:nvPr/>
        </p:nvPicPr>
        <p:blipFill>
          <a:blip r:embed="rId2"/>
          <a:srcRect l="-15440" t="0" r="-15440" b="0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6280" y="533520"/>
            <a:ext cx="3008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Chemistry is concerned with the properties of chemicals and with the changes chemicals can underg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Chemicals make up everything you see every day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A chemical is any substance that has a definite composition—it’s always made of the same stuff no matter where the chemical comes from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Everything you see, Including the clothes the girl is wearing and the food  she is preparing, is made of chemical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The girl is even made of chemicals!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Even things you cannot see, such as air, are made up of chemicals. without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You Depend on Chemicals Every Da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Content Placeholder 8" descr="images.jpeg"/>
          <p:cNvPicPr/>
          <p:nvPr/>
        </p:nvPicPr>
        <p:blipFill>
          <a:blip r:embed="rId2"/>
          <a:srcRect l="0" t="-9534" r="0" b="-9534"/>
          <a:stretch/>
        </p:blipFill>
        <p:spPr>
          <a:xfrm>
            <a:off x="685800" y="1600200"/>
            <a:ext cx="1752480" cy="19638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9" descr="images.jpeg"/>
          <p:cNvPicPr/>
          <p:nvPr/>
        </p:nvPicPr>
        <p:blipFill>
          <a:blip r:embed="rId3"/>
          <a:srcRect l="0" t="-34344" r="0" b="-34344"/>
          <a:stretch/>
        </p:blipFill>
        <p:spPr>
          <a:xfrm>
            <a:off x="3276720" y="1417680"/>
            <a:ext cx="1904760" cy="2135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images.jpeg"/>
          <p:cNvPicPr/>
          <p:nvPr/>
        </p:nvPicPr>
        <p:blipFill>
          <a:blip r:embed="rId4"/>
          <a:stretch/>
        </p:blipFill>
        <p:spPr>
          <a:xfrm>
            <a:off x="5867280" y="1752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69104.jpg"/>
          <p:cNvPicPr/>
          <p:nvPr/>
        </p:nvPicPr>
        <p:blipFill>
          <a:blip r:embed="rId5"/>
          <a:stretch/>
        </p:blipFill>
        <p:spPr>
          <a:xfrm>
            <a:off x="685800" y="38862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images.jpeg"/>
          <p:cNvPicPr/>
          <p:nvPr/>
        </p:nvPicPr>
        <p:blipFill>
          <a:blip r:embed="rId6"/>
          <a:stretch/>
        </p:blipFill>
        <p:spPr>
          <a:xfrm>
            <a:off x="3429000" y="3733920"/>
            <a:ext cx="1600200" cy="1904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fingerpainter.jpg"/>
          <p:cNvPicPr/>
          <p:nvPr/>
        </p:nvPicPr>
        <p:blipFill>
          <a:blip r:embed="rId7"/>
          <a:stretch/>
        </p:blipFill>
        <p:spPr>
          <a:xfrm>
            <a:off x="6019920" y="3909960"/>
            <a:ext cx="16761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p Eight Chemicals Made in the United States (by Weight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219320"/>
          <a:ext cx="8229600" cy="5338800"/>
        </p:xfrm>
        <a:graphic>
          <a:graphicData uri="http://schemas.openxmlformats.org/drawingml/2006/table">
            <a:tbl>
              <a:tblPr/>
              <a:tblGrid>
                <a:gridCol w="990720"/>
                <a:gridCol w="1828800"/>
                <a:gridCol w="1218960"/>
                <a:gridCol w="4191120"/>
              </a:tblGrid>
              <a:tr h="39816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s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580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uric aci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of fertilizer; metal processing; petroleum refi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0572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he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of plastics; ripening of fruit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yle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of plastic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0572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mo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of fertilizer; refrigera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724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lor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eaching fabrics; purifying water; disinfecta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7956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sphoric acid (Anhydrou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of fertilizer; flavoring agent; rustproofing metal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dium Hydrox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roleum refining; production of plastic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8508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- Dichloroethe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vent, particularly for rub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emical Reactions Happen All Around You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2"/>
          <a:stretch/>
        </p:blipFill>
        <p:spPr>
          <a:xfrm>
            <a:off x="407880" y="1390680"/>
            <a:ext cx="8328240" cy="5448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mages.jpeg"/>
          <p:cNvPicPr/>
          <p:nvPr/>
        </p:nvPicPr>
        <p:blipFill>
          <a:blip r:embed="rId3"/>
          <a:stretch/>
        </p:blipFill>
        <p:spPr>
          <a:xfrm>
            <a:off x="1752480" y="2666880"/>
            <a:ext cx="1371600" cy="120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images.jpeg"/>
          <p:cNvPicPr/>
          <p:nvPr/>
        </p:nvPicPr>
        <p:blipFill>
          <a:blip r:embed="rId4"/>
          <a:stretch/>
        </p:blipFill>
        <p:spPr>
          <a:xfrm>
            <a:off x="5867280" y="2666880"/>
            <a:ext cx="1650960" cy="1105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images.jpeg"/>
          <p:cNvPicPr/>
          <p:nvPr/>
        </p:nvPicPr>
        <p:blipFill>
          <a:blip r:embed="rId5"/>
          <a:stretch/>
        </p:blipFill>
        <p:spPr>
          <a:xfrm>
            <a:off x="1752480" y="4419720"/>
            <a:ext cx="1371600" cy="120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images.jpeg"/>
          <p:cNvPicPr/>
          <p:nvPr/>
        </p:nvPicPr>
        <p:blipFill>
          <a:blip r:embed="rId6"/>
          <a:stretch/>
        </p:blipFill>
        <p:spPr>
          <a:xfrm>
            <a:off x="5867280" y="4419720"/>
            <a:ext cx="150048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 to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y.hrw.co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g in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lect the online textbook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lect chapter 1 (entire chapter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lect Visual Concep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View all of the Visual Concepts under section 1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85760" indent="-217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at is Chemistry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emical Rea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Macintosh HD:Users:student:Desktop:movvideo:st_screencast.mov" descr=""/>
          <p:cNvPicPr/>
          <p:nvPr/>
        </p:nvPicPr>
        <p:blipFill>
          <a:blip r:embed="rId2"/>
          <a:stretch/>
        </p:blipFill>
        <p:spPr>
          <a:xfrm>
            <a:off x="1108080" y="1600200"/>
            <a:ext cx="6927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E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haron Hollowa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6:33:13Z</dcterms:created>
  <dc:creator>College of Education</dc:creator>
  <dc:description/>
  <dc:language>en-US</dc:language>
  <cp:lastModifiedBy>College of Education</cp:lastModifiedBy>
  <dcterms:modified xsi:type="dcterms:W3CDTF">2009-07-25T19:39:52Z</dcterms:modified>
  <cp:revision>4</cp:revision>
  <dc:subject/>
  <dc:title>What Is Chemistry ?</dc:title>
</cp:coreProperties>
</file>